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1C53-A367-4529-AB00-62447C90B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A85C-193D-4A3E-B0CF-40A189E3860B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8063-E796-4524-8F84-72B158AEADA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ED24-47D3-4618-B17D-2E705113CD7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A08A-F903-4453-8601-C2EFCC31F567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CDD9-1A56-434A-B838-B549E1123B8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ECE2-703D-4424-A437-8E67FFDF2B8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1F7D-8AFE-4E83-9FD4-2412E17E09AC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028A-5DA1-4E7C-8FFD-630BB5B3BC1B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49AB-C262-4B7E-B89F-B225337493B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C60-C5B8-4D41-9653-25AF403F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26C-CC45-475C-B592-64453105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3BA-8D40-4021-89B7-25C9548C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85B-EAD5-4758-949D-A11DAA38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6A62-A768-4EE2-A906-34940785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062A-A2CF-4433-A471-FF0D09B1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46BF-C012-43B6-900D-558E8795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62FA-8211-48F6-B38F-A99361CF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070E-C58D-4C73-9C16-C2DC71EB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594D-52AC-4477-A7A9-5A03AB25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4715-2B2D-490E-A5AA-2D5BFE18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9AE-A47B-4DB4-9D26-20902C12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7A30-A5D8-45FB-AD6A-45E02B27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9E7C-8543-4A3E-80E0-982B4E20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D2B2-FEBD-4C2D-8312-DA9BD904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4248-79C2-47B8-9D2D-6008F524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1DE3-2294-443C-B686-9F7A53BA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FB753-A791-486D-9E3B-C3F3754A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CB280-F7C5-4CDF-90C6-E4D2BF19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BE143-D2E0-46B6-9C4D-EF308EA9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D3165-06B6-4DE4-A134-E63CA980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C67B-9DE0-4952-8D5A-383388C8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91D-F145-497E-A2B8-08167376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1B031-7E27-4045-872E-2432477D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26A12-3549-4DBD-B831-A97A4F2B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B5FDB-612E-4907-BAF0-DAE64E25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129D5-882E-484D-96FD-D8F50367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B6636-9ACC-44DE-AF92-6AF644AD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0D559-A9E7-4514-9001-4E231902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59EEE-C2D9-4D30-AA22-785F0A1E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A9984-4D46-455B-92D9-37D49F7A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BE64A-F940-4A67-A43B-BD08E3C0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90EB3-494A-4189-8E8E-73557143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D57-E7B0-420F-BA7B-BD623287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50495-F44C-459C-BF00-76A5B77B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BC0B5-2656-49BC-89C6-A150FA95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AADD8-98ED-42D9-ADEF-099734AC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DE99B-6917-4CA9-BFEC-987437B5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10D76-B10D-4416-A849-816A2E48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3C595-E6BA-47AE-93CB-7DE1BA82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97F4E-B61B-41DE-9D43-DC8644DA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9A06E-D53B-4B52-804C-2D401BBD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41507-6B57-46A9-8577-4506B1F4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A3F8B-C4A3-4FA2-86A4-5B6FD4D2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3EC-C02B-4044-8D81-9DC84681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992A2-E7AF-403C-B358-F2DC5C95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74795-C035-41B4-AB36-35C63B31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C86D9-C77C-487A-8D61-6EAB426C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AA357-ED0B-4738-A705-F82E7519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1183E-D5E1-47B8-8AE8-BC360524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39E72-5C10-4784-9908-91CC7312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DABE0-CEAE-4BFE-B946-4A2F9CA7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64A89-60B1-410D-8B91-B65525A3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42C07-12C3-4445-8725-FC254F2C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13A97-FA32-428E-B251-072EF2E1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11B-456F-4DD5-9EB9-C5C33864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EFFA4-B4BE-474F-BCF6-FA02BC3B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4F1C0-C029-46DF-B569-D078FB40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CEBC8-60E3-42CD-8298-A3C62D84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BAEFC-7525-4725-A872-BEEBEBD1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7AC86-3E80-4AB3-975F-2D548B82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7E943-C835-40EC-AC47-FA11DACA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5F8FF-4CE1-4857-894E-D1772EF1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2F495-965F-4CCF-81ED-B9C21E18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F6041-7058-49A3-830B-6E46724B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A8B19-F655-4A15-ADD1-4BF7E272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172-6DF4-4728-B084-02B4621B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3B79F-AB65-45FB-B6C8-CB108799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ADE0F-7442-4591-8E37-CAB13E2E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53B75-5F3B-4DF4-9172-2E60FA9C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8E01B-D8D9-4635-9B3B-46B01DD7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9CD06-A39F-48FD-A378-2F33EA34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E6023-3B70-490E-BBDF-EE064753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51B37-2A22-4D77-B4F4-C7B06BF8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765B3-F60A-4AE0-A9F9-C955C86D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83E7C-4799-43F5-9776-44F16558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25FD9-3BEC-43FA-B615-678D261A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069-EE80-4763-9FFB-15ED0219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471BE-DBA8-4F55-A804-3922DA53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BD5DF-DCCA-44A3-A179-76DB342B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778CD-5BD3-447B-AD9B-DE0D29C2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AB86F-E2F8-42CA-BC6B-654A8487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BB46E-789C-451B-862B-A2A103E8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C7737-2B04-4BEA-89B4-3F136F8D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2A57D-7888-442D-9D7E-96959236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C1613-3114-4746-9FD0-45913B66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1404A-7EC4-4D07-A9D8-AE3C24E8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331E3-8EEA-4CC5-9DF1-3BCF07BB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309-012A-4898-9F14-C10DE6B1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E708D-F7FD-4817-A4CC-07AD3689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4E893-6F4F-40D0-A116-F7732582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AA5B5-EC88-4B9B-A08F-D451B169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8B3CA-CA7D-4F5F-A1E6-FB2D9AAC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DC91A-B2ED-472B-A5DB-D6213B98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D5D5E-7839-4CD6-B84A-28081A2C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C8275-C7D5-4EAD-B36F-4E4B6725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A359-C84A-4A08-9C48-3CA680D7CDA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611A-EEDA-42A9-A15D-BF6718AAE59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B6BB-EAB6-494A-8410-25427D3CB947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CFD9-DB1F-4418-8F5C-4F2AB53AC17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18D0-E6E8-4A14-B480-6D8F0ADA8C5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568D-7F76-48A5-AFCF-16935F84A6F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6F77-FF78-4EF7-A170-61D01BA8753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699F-9601-422A-BD37-C0F5E266756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in Qualitative Research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Shahaduz Zaman Ph.D.</a:t>
            </a:r>
            <a:br>
              <a:rPr sz="28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Newcastle University, UK </a:t>
            </a:r>
            <a:br>
              <a:rPr sz="28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50BB-7485-4984-8B98-95B607918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e siz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546E-29EB-4632-B7C9-1B3344D4D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ow many is enough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nough to do justice to the subject, no more, no less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C653-F2E9-4AB4-9833-2C31EFAB6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minutes interview with 200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vs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hours interview with 2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A101-4395-44FE-A3C7-8165B0B97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ud’s ground breaking theory ‘Psychoanalysis’ 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d on 10 ca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udied over 5 years</a:t>
            </a:r>
            <a:br>
              <a:rPr sz="3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ule of the thumb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A23F-C3AD-4F54-8B35-571B678AB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fficien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Covering maximum variety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of respondents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tu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Point of redundancy in response</a:t>
            </a:r>
            <a:br>
              <a:rPr sz="3200"/>
            </a:b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4E5A-6C54-429D-A911-32967BC0B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ple determination is influenced by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Homogeneity of the group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Nature and experience of the researcher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423E-64D7-4AFA-9637-EF27E061B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phenomenological Studie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At least 6 interviews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grounded theory Stud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12 interviews in each category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Greg Guest, Arwen Bunce and Laura Johnson (2006) Field Methods (18, 59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B439-7BF3-4185-8E0C-352951046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arge samples selected random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e should be representative of some larger population to which one hopes to generalize research find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depth, small samples selected purposive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ing driven by the desire to illuminate questions under study, and to increase the scope or range of data expos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886F-6A5D-40AD-BC94-C80F30C70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egins with a relatively fixed theory, eg. An explanation for something that is to be tested. Theory tested in context of random sample, using large enough </a:t>
            </a:r>
            <a:r>
              <a:rPr b="0" i="1" lang="en-GB" sz="3600" spc="-1" strike="noStrike">
                <a:solidFill>
                  <a:srgbClr val="000000"/>
                </a:solidFill>
                <a:latin typeface="Gill Sans MT"/>
              </a:rPr>
              <a:t>N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monstrate statistical significanc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4720" y="2174760"/>
            <a:ext cx="40417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egins with ‘flexible’ theory, allowing for further revision/ decision regarding boundary of investigation, follows a process such as what data sources are ‘rich’, who should I talk to, what should I look at first. As research progresses, ask what data sources may confirm my understanding (theory) or challenge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ampling Strategies 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A0DC-F706-4EED-8F05-7CFE7EA99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ximum var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heory based: Sampling in focused manner, based on a priory theory being evalu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firming/Disconfirming c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xtreme or deviant cas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ratified purposefu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nowball/Chain Sampl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F02E-45AF-417E-AD15-F5D922A19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4" descr="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AC6E-0D24-42FC-BAC0-8E484CD03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Diagram 5"/>
          <p:cNvGrpSpPr/>
          <p:nvPr/>
        </p:nvGrpSpPr>
        <p:grpSpPr>
          <a:xfrm>
            <a:off x="1044360" y="171360"/>
            <a:ext cx="7870680" cy="5091120"/>
            <a:chOff x="1044360" y="171360"/>
            <a:chExt cx="7870680" cy="5091120"/>
          </a:xfrm>
        </p:grpSpPr>
        <p:sp>
          <p:nvSpPr>
            <p:cNvPr id="363" name="_s1028"/>
            <p:cNvSpPr/>
            <p:nvPr/>
          </p:nvSpPr>
          <p:spPr>
            <a:xfrm>
              <a:off x="1044360" y="1597680"/>
              <a:ext cx="4885560" cy="3664800"/>
            </a:xfrm>
            <a:prstGeom prst="donut">
              <a:avLst>
                <a:gd name="adj" fmla="val 16666"/>
              </a:avLst>
            </a:prstGeom>
            <a:solidFill>
              <a:srgbClr val="4646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_s1029"/>
            <p:cNvSpPr/>
            <p:nvPr/>
          </p:nvSpPr>
          <p:spPr>
            <a:xfrm>
              <a:off x="7613640" y="180000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_s1030"/>
            <p:cNvSpPr/>
            <p:nvPr/>
          </p:nvSpPr>
          <p:spPr>
            <a:xfrm>
              <a:off x="1857240" y="2207160"/>
              <a:ext cx="3256920" cy="2442600"/>
            </a:xfrm>
            <a:prstGeom prst="donut">
              <a:avLst>
                <a:gd name="adj" fmla="val 25000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7613640" y="98568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ig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_s1032"/>
            <p:cNvSpPr/>
            <p:nvPr/>
          </p:nvSpPr>
          <p:spPr>
            <a:xfrm>
              <a:off x="2673000" y="2819160"/>
              <a:ext cx="1628280" cy="1221840"/>
            </a:xfrm>
            <a:prstGeom prst="ellipse">
              <a:avLst/>
            </a:prstGeom>
            <a:solidFill>
              <a:srgbClr val="b292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_s1033"/>
            <p:cNvSpPr/>
            <p:nvPr/>
          </p:nvSpPr>
          <p:spPr>
            <a:xfrm>
              <a:off x="7613640" y="17136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mpl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98C9-DE6F-4BD1-819D-58FCDE5C5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rposive sampling should never be confused with sampling for convenienc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Features of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18F4-C801-400C-9089-FC2407050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Qualitative sampling is systematic but flex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uided by clear research ques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evolves as the study progres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2195-60EF-4DFB-AC39-8143CF116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units are selected serially. Who and what comes next depends on who and what comes befor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election continues to the point of redundancy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Qualitative sampl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B942-9D6D-4DFF-A4E5-C2FB305BC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process (Plan-Revis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agmatic (Time, money, personnel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ke considerations explicit/Justify what has been d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Warning in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362D-E8EC-4D13-9AE6-FD60154D1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too th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selecting the exotic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fitting researchers ideal percep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es qualitative research present bias result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the Generalizibility  of qualitative research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en-US" sz="3100" spc="-1" strike="noStrike">
                <a:solidFill>
                  <a:srgbClr val="464653"/>
                </a:solidFill>
                <a:latin typeface="Bookman Old Style"/>
              </a:rPr>
              <a:t>Biases</a:t>
            </a:r>
            <a:endParaRPr b="0" lang="en-US" sz="3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ective Instru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server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lec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ffect of observ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Bias is (partly) unavoidable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Dealing with bias in  Qualitative research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ansferabili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Bookman Old Style"/>
              </a:rPr>
              <a:t>Types of triangulation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metho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sour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resear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perspectiv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image_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Quantitative Sampling : Random Sampling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F74F-18BD-4B8A-B738-861006B50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e that is representative in a statistical way of the whole population of intere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which each member of the population has an equal chances of being selec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Objectivity vs Reflexiv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bject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term generally implies maintaining distance between the observer and the observed and minimizing any possible influence of the researchers value on the process of inqui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Reflex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way of knowing that even as a co- participant in the inquiry the researcher has maintained the distinction between personal values and those of the participants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t suggests that there is a middle ground between becoming too involved which can cloud judgment, and remaining too distant, which can reduce understanding.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earcher’s critical self awareness -is a vital process in which you question and observe yourself at the same time you listen to and observe the participan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64653"/>
                </a:solidFill>
                <a:latin typeface="Bookman Old Style"/>
              </a:rPr>
              <a:t>Generalizibility</a:t>
            </a:r>
            <a:endParaRPr b="0" lang="en-US" sz="2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t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atistic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tural Generalization (Transferability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Generalizibility vs Transferabil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eneralizi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findings of the research can be generalized to the wider population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ransfer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the conclusions of a study are transferable to other contex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Qualitative Sampling: Purposive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CDE6-57C6-42F4-AFA4-E95B0038D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contrast to random sampling,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information ric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cases are selected according to the purpose of the stud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order to get a holistic picture sampling  includes a serious search for both positive and negative case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heoretical Sampl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tto of qualitative 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65C9-965F-48FE-8DA3-77C5F20EA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mall is beautifu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t about littl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Aim of sampling in qualitative research 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3957-DC3A-4854-BEC1-DD1545A09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he primary purpose of sampling is to collect specific cases, events, or actions that can clarify and deepen understa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1DF0-3797-4522-9720-0D9A0446B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adth Versus Dep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oader range of experiences for a smaller number of peopl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uni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3F38-40BE-44D1-B35B-94521E76C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ntitative Sampling samples peop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litative Sampling samples people, time, sit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9626-FF19-43D7-A690-C25222F03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people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ypical cas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viant case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s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tim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y/ nig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ason/Personal occurrence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1:02:25Z</dcterms:created>
  <dc:creator>Neeor</dc:creator>
  <dc:description/>
  <dc:language>en-US</dc:language>
  <cp:lastModifiedBy>Zaman</cp:lastModifiedBy>
  <dcterms:modified xsi:type="dcterms:W3CDTF">2013-12-11T21:12:33Z</dcterms:modified>
  <cp:revision>37</cp:revision>
  <dc:subject/>
  <dc:title>Selecting Unit of Study Sampling</dc:title>
</cp:coreProperties>
</file>